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32D-E162-479E-8EC9-074B8477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912-614D-4ADB-B898-DD70C37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3DE-35A9-42CA-B38D-3319E964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F15-DADB-4765-B2B3-8CB83566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E98-C873-477D-8956-607D10A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16E-AAA1-4BEF-BF5D-E06E516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418-48F2-48FF-9469-32CA56F7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3D9-D900-4643-B92D-5E1C8EB1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3E1-9FD1-4ABD-BC7C-6DCA8743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6B3-8C6C-4567-8B92-17E8ABF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69D-8D8B-4836-B393-9A7C96A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C93-62D3-4874-9E7B-28C6A68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9B2-4EEE-4023-A2BB-E7E4CFAA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VOLUME CUBE UN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 0.240 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volume cube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volume cube units block"/>
          <p:cNvPicPr/>
          <p:nvPr/>
        </p:nvPicPr>
        <p:blipFill>
          <a:blip r:embed="rId1"/>
          <a:stretch/>
        </p:blipFill>
        <p:spPr>
          <a:xfrm>
            <a:off x="1219320" y="304920"/>
            <a:ext cx="64008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labeled cube"/>
          <p:cNvPicPr/>
          <p:nvPr/>
        </p:nvPicPr>
        <p:blipFill>
          <a:blip r:embed="rId1"/>
          <a:stretch/>
        </p:blipFill>
        <p:spPr>
          <a:xfrm>
            <a:off x="1066680" y="336600"/>
            <a:ext cx="7162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olored &amp; labeled cube units block"/>
          <p:cNvPicPr/>
          <p:nvPr/>
        </p:nvPicPr>
        <p:blipFill>
          <a:blip r:embed="rId1"/>
          <a:stretch/>
        </p:blipFill>
        <p:spPr>
          <a:xfrm>
            <a:off x="1066680" y="517680"/>
            <a:ext cx="67820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rsions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d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c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 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m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000 L = 1 k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ubic meter liter.jpg"/>
          <p:cNvPicPr/>
          <p:nvPr/>
        </p:nvPicPr>
        <p:blipFill>
          <a:blip r:embed="rId1"/>
          <a:stretch/>
        </p:blipFill>
        <p:spPr>
          <a:xfrm>
            <a:off x="2209680" y="3025800"/>
            <a:ext cx="5070600" cy="383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 cubic meter is lar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cubic meter.jpg"/>
          <p:cNvPicPr/>
          <p:nvPr/>
        </p:nvPicPr>
        <p:blipFill>
          <a:blip r:embed="rId1"/>
          <a:stretch/>
        </p:blipFill>
        <p:spPr>
          <a:xfrm>
            <a:off x="1427040" y="920880"/>
            <a:ext cx="5911920" cy="112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 Black"/>
              </a:rPr>
              <a:t>1 mL = 1 cm</a:t>
            </a:r>
            <a:r>
              <a:rPr b="0" lang="en-US" sz="5400" spc="-1" strike="noStrike" baseline="30000">
                <a:solidFill>
                  <a:srgbClr val="0070c0"/>
                </a:solidFill>
                <a:latin typeface="Arial Black"/>
              </a:rPr>
              <a:t>3</a:t>
            </a:r>
            <a:r>
              <a:rPr b="0" lang="en-US" sz="5400" spc="-1" strike="noStrike">
                <a:solidFill>
                  <a:srgbClr val="0070c0"/>
                </a:solidFill>
                <a:latin typeface="Arial Black"/>
              </a:rPr>
              <a:t> = 1 c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1mL=1cc.jpg"/>
          <p:cNvPicPr/>
          <p:nvPr/>
        </p:nvPicPr>
        <p:blipFill>
          <a:blip r:embed="rId1"/>
          <a:stretch/>
        </p:blipFill>
        <p:spPr>
          <a:xfrm>
            <a:off x="380880" y="1606680"/>
            <a:ext cx="8534520" cy="5251320"/>
          </a:xfrm>
          <a:prstGeom prst="rect">
            <a:avLst/>
          </a:prstGeom>
          <a:ln w="0">
            <a:noFill/>
          </a:ln>
        </p:spPr>
      </p:pic>
      <p:sp>
        <p:nvSpPr>
          <p:cNvPr id="54" name="Oval Callout 4"/>
          <p:cNvSpPr/>
          <p:nvPr/>
        </p:nvSpPr>
        <p:spPr>
          <a:xfrm>
            <a:off x="5867280" y="1219320"/>
            <a:ext cx="3276720" cy="1600200"/>
          </a:xfrm>
          <a:prstGeom prst="wedgeEllipseCallout">
            <a:avLst>
              <a:gd name="adj1" fmla="val -80347"/>
              <a:gd name="adj2" fmla="val -4972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Know these conver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iters are in 3.68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ink of your conversion factors for a liter.  What is 1 L equal to in cubic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L = 1 d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1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 to in liter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1000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ow you are ready to sol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with your given.  If 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up top than 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ust go on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68 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4"/>
          <p:cNvSpPr/>
          <p:nvPr/>
        </p:nvSpPr>
        <p:spPr>
          <a:xfrm>
            <a:off x="609480" y="5715000"/>
            <a:ext cx="4191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6"/>
          <p:cNvSpPr/>
          <p:nvPr/>
        </p:nvSpPr>
        <p:spPr>
          <a:xfrm flipH="1">
            <a:off x="2131560" y="5106960"/>
            <a:ext cx="324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4:48:21Z</dcterms:created>
  <dc:creator>jluckey</dc:creator>
  <dc:description/>
  <dc:language>en-US</dc:language>
  <cp:lastModifiedBy>jluckey</cp:lastModifiedBy>
  <dcterms:modified xsi:type="dcterms:W3CDTF">2011-08-07T21:02:59Z</dcterms:modified>
  <cp:revision>4</cp:revision>
  <dc:subject/>
  <dc:title>Slide 1</dc:title>
</cp:coreProperties>
</file>